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89B-D72A-4B27-91AB-3A75BD0A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52D-C074-4AF4-B381-45EEAE42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731-02A2-4F31-80D7-6A8B1A1F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951-3CFB-4119-8080-D5507A2A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533-E807-4ED7-B493-6E332C32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647-9D74-4B30-9870-CBDC6C14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7AA-25A0-410B-B68E-AA55EE25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6E1-F7B1-4D13-A10A-B3250034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C83-5887-4728-B075-AD7F1A23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0A1-7F50-439D-9327-9DF026A8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853-7D85-4843-95D7-C94A43A1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D2D-6BD5-49A8-B2B1-AF16389F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648D-C244-4C55-B989-186BBB740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imeo.com/christopheviau" TargetMode="External"/><Relationship Id="rId2" Type="http://schemas.openxmlformats.org/officeDocument/2006/relationships/hyperlink" Target="http://christopheviau.com/genoma/" TargetMode="External"/><Relationship Id="rId3" Type="http://schemas.openxmlformats.org/officeDocument/2006/relationships/hyperlink" Target="http://visualisationscientifique.blogspot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en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Christophe Vi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MIS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imple ways to expla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volution of a shape following an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fluenced by the genome, exchanging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genome is parasitized by the v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y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t and Biology, self-taught program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isualization in Bioinformatics (complicated scientific stuf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terest in the Mathematical beauty of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he base idea: the sha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imulate kind of an “artificial phenomena”, inspired by planets, virus, chemical re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I see a flower, I admire the simplicity of the patterns and the complexity of its manifes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 try to do simple things but with an underlying complex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 work with Gielis, creator of the Super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he base idea: comp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genome is composed of protein that exchange information, strings of 0 and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hape is evolving by itself on a loop, more precisely on a s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genome modify this 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ound analysis takes the frequencies and amplitudes and induce mutation, errors in the ex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Questions I he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 the analysis makes a difference between different people, musical instruments? (interaction between geomet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y the shape is evolving by itself even without hearing any sound? (not a sound visualizer, but more a slow genomic rea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is it that you want to communicate with this work? (Geometry everywhere, but the beauty is in na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vimeo.com/christophevi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hristopheviau.com/genoma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visualisationscientifique.blogspot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udied Art and a bit of Biology and Medic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lf-taught programmer, but now PhD in computer engineering (Bioinforma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lend Art and Scientific Visu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ast work in geo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in geometric structure in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fantasy around some evolving natural phenomena (a solar eruption, an eclipse, a nebula, an alien life fo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a shape feeding on genomic data, parasitized by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reviou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FlowVizMenu and Parallel Coordinates Matr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pherical Harmo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oma.Mercato,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taly, Cur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Anton Roca from The Rad’Art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ogramming arts is like pa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utating Eclip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lo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und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in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pershape evolves according to the Gielis Superformula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influenced by the Genome, exchanging data using a flocking A.I.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ich is parasitized by 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v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chnical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ll be presented next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CD screen and micro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JoglFramework, Graphstacker, js3d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enomaLabs watching for the 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enomaLabs: art galleries as research la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D and Real-time exper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7:03:12Z</dcterms:created>
  <dc:creator>c5141942</dc:creator>
  <dc:description/>
  <dc:language>en-US</dc:language>
  <cp:lastModifiedBy>c5141942</cp:lastModifiedBy>
  <dcterms:modified xsi:type="dcterms:W3CDTF">2010-11-09T19:58:06Z</dcterms:modified>
  <cp:revision>36</cp:revision>
  <dc:subject/>
  <dc:title>Genoma</dc:title>
</cp:coreProperties>
</file>